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4638-937B-4390-B9FC-4D86CD6CA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8AF-8C64-41EE-9FEB-1A9F1BD11D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9B1-E650-4FBA-A89F-4D89498812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370-E3F3-45C5-8A0C-AF2A29F0F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CD40-FEE8-4DA2-B6A2-29566611E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E6A-C28D-443B-B6E5-9F927B13A6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4AE9-CA4B-4F23-B0F2-959628AD2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1AA-7147-4410-9D5E-A6E7E4EE2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8DFC-BFDA-4CEF-85D2-3A5A425A6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8D7-E793-4977-AFFF-6941E09526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6869-3297-4C8E-96BE-10AD345224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1991-05D8-4E70-8EF5-46B2464D3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815B-DA39-44E3-93D9-B492CBF7BF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6A9D-8F03-4AC7-855D-C0A2E93DB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F1E-F8D3-4051-B319-6967F90C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B85-0CD4-49E8-B491-75812BFE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75A-3AA6-41AB-93C3-95D0C11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58D-2AB5-4AB2-93CA-43D2EB6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3CF-4BA3-4B22-83B2-B53BDC5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5F4-FB4F-4369-90B9-298E2B6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7DE-B20B-4F51-B8BB-38553EF4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550-6CDD-40D7-9045-7B19374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E46-2FCF-4802-93AA-4ABBCBB6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00E-4691-45A8-9D41-10A3CFB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E11-CDEC-4536-B634-8F28FE1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AC9-B8E7-4AE5-B019-D86C5E1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ternal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785-6767-4DBE-AE6D-4071A689FFD9}" type="datetime">
              <a: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74CB-9CDA-4F43-B0D3-850856D7EA8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nternal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over_back_8"/>
          <p:cNvPicPr/>
          <p:nvPr/>
        </p:nvPicPr>
        <p:blipFill>
          <a:blip r:embed="rId3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6" name="Picture 6" descr="icon_1"/>
            <p:cNvPicPr/>
            <p:nvPr/>
          </p:nvPicPr>
          <p:blipFill>
            <a:blip r:embed="rId4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icon_5"/>
            <p:cNvPicPr/>
            <p:nvPr/>
          </p:nvPicPr>
          <p:blipFill>
            <a:blip r:embed="rId5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icon_2"/>
            <p:cNvPicPr/>
            <p:nvPr/>
          </p:nvPicPr>
          <p:blipFill>
            <a:blip r:embed="rId6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icon_3"/>
            <p:cNvPicPr/>
            <p:nvPr/>
          </p:nvPicPr>
          <p:blipFill>
            <a:blip r:embed="rId7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icon_4"/>
            <p:cNvPicPr/>
            <p:nvPr/>
          </p:nvPicPr>
          <p:blipFill>
            <a:blip r:embed="rId8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\\glbfs14\sw_releases\Wireless_Global_Tools\Tool_Release\SP_Drivers\InUse\UART\FTDI" TargetMode="External"/><Relationship Id="rId2" Type="http://schemas.openxmlformats.org/officeDocument/2006/relationships/hyperlink" Target="\\glbfs14\sw_releases\Wireless_Global_Tools\Tool_Release\SP_Drivers\InUse\UART\Prolifi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600" y="27018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ver installation for SP BSP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24360" y="5621400"/>
            <a:ext cx="31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SimHei"/>
              </a:rPr>
              <a:t>MBJ_WCP2OSS5_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FB82-9CB4-411E-A8BA-C0047472D863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D5E-B886-4451-B057-99A93DA9B93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2440" y="1071720"/>
            <a:ext cx="827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Remove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bat.png"/>
          <p:cNvPicPr/>
          <p:nvPr/>
        </p:nvPicPr>
        <p:blipFill>
          <a:blip r:embed="rId1"/>
          <a:stretch/>
        </p:blipFill>
        <p:spPr>
          <a:xfrm>
            <a:off x="2000160" y="2643120"/>
            <a:ext cx="3057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AAF-FB4C-4EC1-98F9-B1FD56B85B19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1976-A1E9-4891-A05D-D7C36421FBB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440" y="1071720"/>
            <a:ext cx="82706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標楷體"/>
              </a:rPr>
              <a:t>Install driver listed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FTDI driver (For 2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1"/>
              </a:rPr>
              <a:t>\\glbfs14\sw_releases\Wireless_Global_Tools\Tool_Release\SP_Drivers\InUse\UART\FT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Prolific driver (For 3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2"/>
              </a:rPr>
              <a:t>\\glbfs14\sw_releases\Wireless_Global_Tools\Tool_Release\SP_Drivers\InUse\UART\Prol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C97B-207A-4205-8CDC-9F8FE6F4D74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6CA-321D-45E1-ADA2-085B91C63DD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etails in install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Bootloader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BootROM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Preloader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DA HS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Kern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DB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CM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NDIS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MTP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3203280" y="32828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7E5-4867-4801-B818-1B307E101D55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F4E-794C-46AE-AE64-5ECADBB7122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28800" y="1214280"/>
          <a:ext cx="7572240" cy="2308320"/>
        </p:xfrm>
        <a:graphic>
          <a:graphicData uri="http://schemas.openxmlformats.org/drawingml/2006/table">
            <a:tbl>
              <a:tblPr/>
              <a:tblGrid>
                <a:gridCol w="1071360"/>
                <a:gridCol w="1285920"/>
                <a:gridCol w="5214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Content &amp; Mo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6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Draft 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Use DPInst to install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igned and unsigned drivers into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P_Drivers_v1.5 (Kernel driv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8A7-51C3-4BF4-983C-B802C7A8DE48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ED73-165B-4BC3-B830-4FEF8605B0A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AR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B25B-46E1-460E-9FB3-76D3EEDB4390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2D5A-A2D0-4C2C-8D6C-2D1B8D56DE1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To simplify procedure of driver installation when using SP BSP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SP Flash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Maui META tool / SP META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Ke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ternal RD &amp; 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F4A-0DF6-4911-8D65-6A0CACAA3355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982-3803-4E96-8513-E48FB3CB475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compress package of driver auto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Install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at.png"/>
          <p:cNvPicPr/>
          <p:nvPr/>
        </p:nvPicPr>
        <p:blipFill>
          <a:blip r:embed="rId1"/>
          <a:stretch/>
        </p:blipFill>
        <p:spPr>
          <a:xfrm>
            <a:off x="2000160" y="2928960"/>
            <a:ext cx="30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38D-891B-40FE-869D-B7722B9BA00A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0E9-D4AE-4740-AF88-6EDC74C611F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f warning prompt shown about unsigned drivers installation, please confir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rompt.PNG"/>
          <p:cNvPicPr/>
          <p:nvPr/>
        </p:nvPicPr>
        <p:blipFill>
          <a:blip r:embed="rId1"/>
          <a:stretch/>
        </p:blipFill>
        <p:spPr>
          <a:xfrm>
            <a:off x="4357800" y="2928960"/>
            <a:ext cx="4572000" cy="295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nstall_sign.png"/>
          <p:cNvPicPr/>
          <p:nvPr/>
        </p:nvPicPr>
        <p:blipFill>
          <a:blip r:embed="rId2"/>
          <a:stretch/>
        </p:blipFill>
        <p:spPr>
          <a:xfrm>
            <a:off x="357120" y="2928960"/>
            <a:ext cx="3814920" cy="295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786040" y="5608800"/>
            <a:ext cx="714240" cy="214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5000760"/>
            <a:ext cx="3071880" cy="5713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7FE-ACF2-44B6-8C1D-C3A4F2F66C2A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234-A1B8-49A6-83C1-0441FB9810E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Wait a moment till prompt of install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omplete.PNG"/>
          <p:cNvPicPr/>
          <p:nvPr/>
        </p:nvPicPr>
        <p:blipFill>
          <a:blip r:embed="rId1"/>
          <a:stretch/>
        </p:blipFill>
        <p:spPr>
          <a:xfrm>
            <a:off x="4429080" y="2928960"/>
            <a:ext cx="43880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stall.png"/>
          <p:cNvPicPr/>
          <p:nvPr/>
        </p:nvPicPr>
        <p:blipFill>
          <a:blip r:embed="rId2"/>
          <a:stretch/>
        </p:blipFill>
        <p:spPr>
          <a:xfrm>
            <a:off x="357120" y="2928960"/>
            <a:ext cx="3786120" cy="29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512-052D-485F-A46C-3B214BCA3BFE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E1A-CD71-4883-B62A-E31A8F8BCE5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Run tool and plug device into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ONLY a small prompt may appear on system tray, OS will recognize it and make i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ystray.PNG"/>
          <p:cNvPicPr/>
          <p:nvPr/>
        </p:nvPicPr>
        <p:blipFill>
          <a:blip r:embed="rId1"/>
          <a:stretch/>
        </p:blipFill>
        <p:spPr>
          <a:xfrm>
            <a:off x="4357800" y="3929040"/>
            <a:ext cx="3238560" cy="92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igned_pop.png"/>
          <p:cNvPicPr/>
          <p:nvPr/>
        </p:nvPicPr>
        <p:blipFill>
          <a:blip r:embed="rId2"/>
          <a:stretch/>
        </p:blipFill>
        <p:spPr>
          <a:xfrm>
            <a:off x="1857240" y="3929040"/>
            <a:ext cx="1543320" cy="80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071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00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DC3E-0C4C-423F-B86C-D91B4CA19C1C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328-DDD9-4673-BFDA-07A5B94CF37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un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small prompt may appear on system tray, be similar to signed driver, OS will search matched driver automatically (W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dialog will be pop up to driver installation, user should click auto installation, if unsigned prompt shown, please confirm it (Win 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unsigned_pop.png"/>
          <p:cNvPicPr/>
          <p:nvPr/>
        </p:nvPicPr>
        <p:blipFill>
          <a:blip r:embed="rId1"/>
          <a:stretch/>
        </p:blipFill>
        <p:spPr>
          <a:xfrm>
            <a:off x="357120" y="3643200"/>
            <a:ext cx="2714760" cy="19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357200" y="4889520"/>
            <a:ext cx="85752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71800" y="542916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signed_pop2.png"/>
          <p:cNvPicPr/>
          <p:nvPr/>
        </p:nvPicPr>
        <p:blipFill>
          <a:blip r:embed="rId2"/>
          <a:stretch/>
        </p:blipFill>
        <p:spPr>
          <a:xfrm>
            <a:off x="3357720" y="3643200"/>
            <a:ext cx="266220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unsigned_pop3.png"/>
          <p:cNvPicPr/>
          <p:nvPr/>
        </p:nvPicPr>
        <p:blipFill>
          <a:blip r:embed="rId3"/>
          <a:stretch/>
        </p:blipFill>
        <p:spPr>
          <a:xfrm>
            <a:off x="6286680" y="3643200"/>
            <a:ext cx="2738160" cy="2000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4000680" y="3143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071960" y="547200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8045280" y="5443560"/>
            <a:ext cx="50040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39:15Z</dcterms:created>
  <dc:creator>MTK</dc:creator>
  <dc:description/>
  <cp:keywords>Internal Use</cp:keywords>
  <dc:language>en-US</dc:language>
  <cp:lastModifiedBy>mediatek</cp:lastModifiedBy>
  <dcterms:modified xsi:type="dcterms:W3CDTF">2012-10-09T01:43:53Z</dcterms:modified>
  <cp:revision>1033</cp:revision>
  <dc:subject/>
  <dc:title>投影片 0</dc:title>
</cp:coreProperties>
</file>