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3441-BBD7-4ABC-9DCD-562BEEDE3C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937-CC13-44EB-A804-385B0ABE9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F765-AD49-49CB-B567-6826E3459E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010-234D-4213-98D3-C7024F994C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6FD8-3EC3-4B66-948D-8929577699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B81-952A-42DD-A92D-F94809C65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294-D7A5-423B-ABA6-7059AC9A0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CF65-617E-428E-A26D-B7A1BF2DF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FA64-50D3-41CE-A6EE-E7EC63502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06F-D85F-4B2A-AF36-617E6810B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0986-380F-46B0-8A14-218BE730B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C0E-F546-4559-9484-E5A6BB8F3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9DCE-23B6-40F2-BEEC-2EFF9E0E3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B1C-2764-4AC4-9CA2-E33363F30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E8F-347A-45DE-9A27-A2BCD734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483-CAE0-4E05-B611-48B5DD29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A6F-6A92-4475-8D97-40B3A4A7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3E5-6230-485D-9740-76EF427D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252-6352-4F49-A403-A4946F22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0B8-4764-4DFA-8EB4-D2661B82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B24-FC08-4047-A6E9-6C4E838D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4B8-4A46-4A83-90E8-6C16549F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38E-A20E-4B61-ACF5-32E5E044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416-3A99-4AAB-B1FA-32B00E1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C6C-71D6-4E49-A2F1-17B90D4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7C7-AD8D-4797-8D3E-FB8D65B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ternal_bkgd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9200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21B5-99F4-408C-8FFE-EB213E9EFEE8}" type="datetime">
              <a: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3836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09BA-8830-458D-8EF7-BC37EAA6EA0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Internal_title_base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08040" y="623412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over_back_8"/>
          <p:cNvPicPr/>
          <p:nvPr/>
        </p:nvPicPr>
        <p:blipFill>
          <a:blip r:embed="rId3"/>
          <a:stretch/>
        </p:blipFill>
        <p:spPr>
          <a:xfrm>
            <a:off x="0" y="1978200"/>
            <a:ext cx="91440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923760" y="4572000"/>
            <a:ext cx="7294680" cy="590400"/>
            <a:chOff x="923760" y="4572000"/>
            <a:chExt cx="7294680" cy="590400"/>
          </a:xfrm>
        </p:grpSpPr>
        <p:pic>
          <p:nvPicPr>
            <p:cNvPr id="46" name="Picture 6" descr="icon_1"/>
            <p:cNvPicPr/>
            <p:nvPr/>
          </p:nvPicPr>
          <p:blipFill>
            <a:blip r:embed="rId4"/>
            <a:stretch/>
          </p:blipFill>
          <p:spPr>
            <a:xfrm>
              <a:off x="9237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icon_5"/>
            <p:cNvPicPr/>
            <p:nvPr/>
          </p:nvPicPr>
          <p:blipFill>
            <a:blip r:embed="rId5"/>
            <a:stretch/>
          </p:blipFill>
          <p:spPr>
            <a:xfrm>
              <a:off x="2597040" y="457200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icon_2"/>
            <p:cNvPicPr/>
            <p:nvPr/>
          </p:nvPicPr>
          <p:blipFill>
            <a:blip r:embed="rId6"/>
            <a:stretch/>
          </p:blipFill>
          <p:spPr>
            <a:xfrm>
              <a:off x="7627680" y="457200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icon_3"/>
            <p:cNvPicPr/>
            <p:nvPr/>
          </p:nvPicPr>
          <p:blipFill>
            <a:blip r:embed="rId7"/>
            <a:stretch/>
          </p:blipFill>
          <p:spPr>
            <a:xfrm>
              <a:off x="427968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icon_4"/>
            <p:cNvPicPr/>
            <p:nvPr/>
          </p:nvPicPr>
          <p:blipFill>
            <a:blip r:embed="rId8"/>
            <a:stretch/>
          </p:blipFill>
          <p:spPr>
            <a:xfrm>
              <a:off x="59529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\\glbfs14\sw_releases\Wireless_Global_Tools\Tool_Release\SP_Drivers\InUse\UART\FTDI" TargetMode="External"/><Relationship Id="rId2" Type="http://schemas.openxmlformats.org/officeDocument/2006/relationships/hyperlink" Target="\\glbfs14\sw_releases\Wireless_Global_Tools\Tool_Release\SP_Drivers\InUse\UART\Prolifi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9600" y="27018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iver installation for SP BSP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724360" y="5621400"/>
            <a:ext cx="31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SimHei"/>
              </a:rPr>
              <a:t>MBJ_WCP2OSS5_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F46-6806-40C7-B1ED-1A917888BAE5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D14-E90D-46D1-8537-2957311681F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22440" y="1071720"/>
            <a:ext cx="8270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Remove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bat.png"/>
          <p:cNvPicPr/>
          <p:nvPr/>
        </p:nvPicPr>
        <p:blipFill>
          <a:blip r:embed="rId1"/>
          <a:stretch/>
        </p:blipFill>
        <p:spPr>
          <a:xfrm>
            <a:off x="2000160" y="2643120"/>
            <a:ext cx="3057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E35C-58B2-4E1F-A3D6-0D495B6F9AE1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59D-2F8E-4A3C-9C1D-73238E15CC8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2440" y="1071720"/>
            <a:ext cx="82706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A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標楷體"/>
              </a:rPr>
              <a:t>Install driver listed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FTDI driver (For 2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1"/>
              </a:rPr>
              <a:t>\\glbfs14\sw_releases\Wireless_Global_Tools\Tool_Release\SP_Drivers\InUse\UART\FT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Prolific driver (For 3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2"/>
              </a:rPr>
              <a:t>\\glbfs14\sw_releases\Wireless_Global_Tools\Tool_Release\SP_Drivers\InUse\UART\Prol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D45-4FA0-4C80-89AA-E1D5CA152639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D275-831F-46DF-BE2D-658081CA0B7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etails in installatio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Bootloader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BootROM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Preloader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DA HS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Kerne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DB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CM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NDIS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MTP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3203280" y="328284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Hei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A7A3-32DF-4C0D-92A7-3E867ABF8972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E376-64E5-4887-B0C9-F6FB541241D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Re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28800" y="1214280"/>
          <a:ext cx="7572240" cy="2308320"/>
        </p:xfrm>
        <a:graphic>
          <a:graphicData uri="http://schemas.openxmlformats.org/drawingml/2006/table">
            <a:tbl>
              <a:tblPr/>
              <a:tblGrid>
                <a:gridCol w="1071360"/>
                <a:gridCol w="1285920"/>
                <a:gridCol w="5214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Content &amp; Mod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6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Draft 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Use DPInst to install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igned and unsigned drivers into 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P_Drivers_v1.5 (Kernel driv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928-BFB5-49E7-9C06-17685CE5D5CB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E8A4-4B26-42D0-B723-EC484E808A0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ART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709-2ECD-47C8-8E68-DB4CDF29AA1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D280-177E-458D-B952-03D987DCDB7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To simplify procedure of driver installation when using SP BSP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cop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SP Flash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Maui META tool / SP META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Ke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ternal RD &amp; 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7080-F35B-45D1-BDE4-B233CFE3E92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582-B9FE-49B8-BAAA-11A1EDE6658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compress package of driver auto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Install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at.png"/>
          <p:cNvPicPr/>
          <p:nvPr/>
        </p:nvPicPr>
        <p:blipFill>
          <a:blip r:embed="rId1"/>
          <a:stretch/>
        </p:blipFill>
        <p:spPr>
          <a:xfrm>
            <a:off x="2000160" y="2928960"/>
            <a:ext cx="3057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FFF7-73FA-4B01-909B-B1477AAAB8E1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0A1-C86F-4B28-AD05-F2DB7154CF2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f warning prompt shown about unsigned drivers installation, please confir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rompt.PNG"/>
          <p:cNvPicPr/>
          <p:nvPr/>
        </p:nvPicPr>
        <p:blipFill>
          <a:blip r:embed="rId1"/>
          <a:stretch/>
        </p:blipFill>
        <p:spPr>
          <a:xfrm>
            <a:off x="4357800" y="2928960"/>
            <a:ext cx="4572000" cy="295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nstall_sign.png"/>
          <p:cNvPicPr/>
          <p:nvPr/>
        </p:nvPicPr>
        <p:blipFill>
          <a:blip r:embed="rId2"/>
          <a:stretch/>
        </p:blipFill>
        <p:spPr>
          <a:xfrm>
            <a:off x="357120" y="2928960"/>
            <a:ext cx="3814920" cy="2955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786040" y="5608800"/>
            <a:ext cx="714240" cy="2142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15000" y="5000760"/>
            <a:ext cx="3071880" cy="5713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666B-9D05-499E-ABA2-B92513F0399A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CA7B-1267-4889-B9E2-0E1E7F8B52D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Wait a moment till prompt of installation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Complete.PNG"/>
          <p:cNvPicPr/>
          <p:nvPr/>
        </p:nvPicPr>
        <p:blipFill>
          <a:blip r:embed="rId1"/>
          <a:stretch/>
        </p:blipFill>
        <p:spPr>
          <a:xfrm>
            <a:off x="4429080" y="2928960"/>
            <a:ext cx="438804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nstall.png"/>
          <p:cNvPicPr/>
          <p:nvPr/>
        </p:nvPicPr>
        <p:blipFill>
          <a:blip r:embed="rId2"/>
          <a:stretch/>
        </p:blipFill>
        <p:spPr>
          <a:xfrm>
            <a:off x="357120" y="2928960"/>
            <a:ext cx="3786120" cy="291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2DB-EDB4-4408-96E0-512BDDB87330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243-B067-4CB2-83E6-3B7E7670228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Run tool and plug device into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ONLY a small prompt may appear on system tray, OS will recognize it and make i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ystray.PNG"/>
          <p:cNvPicPr/>
          <p:nvPr/>
        </p:nvPicPr>
        <p:blipFill>
          <a:blip r:embed="rId1"/>
          <a:stretch/>
        </p:blipFill>
        <p:spPr>
          <a:xfrm>
            <a:off x="4357800" y="3929040"/>
            <a:ext cx="3238560" cy="924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igned_pop.png"/>
          <p:cNvPicPr/>
          <p:nvPr/>
        </p:nvPicPr>
        <p:blipFill>
          <a:blip r:embed="rId2"/>
          <a:stretch/>
        </p:blipFill>
        <p:spPr>
          <a:xfrm>
            <a:off x="1857240" y="3929040"/>
            <a:ext cx="1543320" cy="800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2071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500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85E0-2F31-469B-B0CE-938EE6C6AD4F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348-A4B9-42F9-8A52-699CBC73A8E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un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small prompt may appear on system tray, be similar to signed driver, OS will search matched driver automatically (Win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dialog will be pop up to driver installation, user should click auto installation, if unsigned prompt shown, please confirm it (Win 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unsigned_pop.png"/>
          <p:cNvPicPr/>
          <p:nvPr/>
        </p:nvPicPr>
        <p:blipFill>
          <a:blip r:embed="rId1"/>
          <a:stretch/>
        </p:blipFill>
        <p:spPr>
          <a:xfrm>
            <a:off x="357120" y="3643200"/>
            <a:ext cx="2714760" cy="1978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357200" y="4889520"/>
            <a:ext cx="85752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071800" y="542916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signed_pop2.png"/>
          <p:cNvPicPr/>
          <p:nvPr/>
        </p:nvPicPr>
        <p:blipFill>
          <a:blip r:embed="rId2"/>
          <a:stretch/>
        </p:blipFill>
        <p:spPr>
          <a:xfrm>
            <a:off x="3357720" y="3643200"/>
            <a:ext cx="2662200" cy="20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unsigned_pop3.png"/>
          <p:cNvPicPr/>
          <p:nvPr/>
        </p:nvPicPr>
        <p:blipFill>
          <a:blip r:embed="rId3"/>
          <a:stretch/>
        </p:blipFill>
        <p:spPr>
          <a:xfrm>
            <a:off x="6286680" y="3643200"/>
            <a:ext cx="2738160" cy="2000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4000680" y="3143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071960" y="547200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8045280" y="5443560"/>
            <a:ext cx="50040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0:39:15Z</dcterms:created>
  <dc:creator>MTK</dc:creator>
  <dc:description/>
  <cp:keywords>Internal Use</cp:keywords>
  <dc:language>en-US</dc:language>
  <cp:lastModifiedBy>mediatek</cp:lastModifiedBy>
  <dcterms:modified xsi:type="dcterms:W3CDTF">2012-10-09T01:43:53Z</dcterms:modified>
  <cp:revision>1033</cp:revision>
  <dc:subject/>
  <dc:title>投影片 0</dc:title>
</cp:coreProperties>
</file>